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6A4C-A9E9-46C5-982B-BB0724376E8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3CC8-88BF-4F07-A374-8BC478426FF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2FF1-DCD1-4888-A1C2-F7F583FA282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C2A8-58BB-46FA-B478-390242DFBFB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165B-597C-41CD-BB6B-97C4C922274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32F7-47B8-4C70-9251-CC14E0506FE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03C5-A850-4E8D-8211-5C220A631DE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1F5F-3B2F-493F-9B20-577C9AF26B6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F41F-9EAF-4A25-B27A-17554BC0FB9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7429-2452-460C-8A01-194A8C90587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5F95-57BD-4297-9006-5DB082D165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AE5F-C0CD-46A7-9F48-BD5049F4BAB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1B34-4B1C-4079-AF61-2287148338F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7B38-4291-4414-A334-76D5BB23288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EC36-0D09-4A4F-8CD1-5F7598D9395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BBA6-D90F-4EFB-A711-75B72C1402C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F617-99C3-4C09-854B-2532FA1D3EA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3396-ABE3-4B80-ABE5-A969298E321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2393-39DB-46D9-B495-25A7E488386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BE17-8D97-45DA-9BB7-F5A63FF643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416E-1A37-4D66-9062-046EEFB2E05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92D3-1929-432B-8360-09A74DC3757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07E0-584F-4152-8000-146647898CC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7EF7-7E97-40CF-852D-8ABD6924701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9696-DC4A-4A04-A6F5-87AFFB9E36B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9981-D4D8-42F8-BF8F-54EAA36565F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8993-F1C2-4453-86BB-704241557F7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B918-3CE3-4CE9-B5EB-5B27D49859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71B4-9D59-4528-B59B-F6C4098FC30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1E5D-2D7B-42E4-8D3A-D222A0E4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5B29-8B11-441C-A1D6-EE5D7DD3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0919-2DDE-4E52-82DB-042EC8FE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A5FF-D44D-4F68-B907-8B3D1CB0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F4D-51B1-43A1-9249-39395990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0A0E-A70A-4417-8510-64F8A795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8570-ABDB-4463-A489-F8A450BC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F881-B534-415E-88A7-63427C74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A676-29BF-476F-AE24-4E5926F0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63B0-2559-4DE7-B863-1B16CD19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0A54-437B-4513-BD0D-68DE710D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08E1-34F6-49B0-AC22-27C248D3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EF2D-85CD-4827-AB15-C1500D7DA1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ahoma"/>
              </a:rPr>
              <a:t>Kinds of Sentences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10" descr="http://upload.wikimedia.org/wikipedia/commons/c/ca/Quill_%28PSF%29.png"/>
          <p:cNvPicPr/>
          <p:nvPr/>
        </p:nvPicPr>
        <p:blipFill>
          <a:blip r:embed="rId2"/>
          <a:stretch/>
        </p:blipFill>
        <p:spPr>
          <a:xfrm>
            <a:off x="3127320" y="2876400"/>
            <a:ext cx="2889360" cy="48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there are many different kinds of animals at the zo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open to Chapter 5 of your math book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rob has an iPod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be careful with your iPod and cell phon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how entertaining and amazing the acrobats ar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do you have an iPod or a cell phon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please pass the salt and pepper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it is sunny outsid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are you planning to travel during your vacation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what a beautiful day it was on Saturday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There are </a:t>
            </a:r>
            <a:r>
              <a:rPr b="1" lang="en-US" sz="7200" spc="-1" strike="noStrike" u="sng">
                <a:solidFill>
                  <a:srgbClr val="ffffff"/>
                </a:solidFill>
                <a:uFillTx/>
                <a:latin typeface="Tahoma"/>
              </a:rPr>
              <a:t>four</a:t>
            </a: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 different kinds of sentences.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would you like to go to the beach with m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bring your hat and sunblock with you to the beach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wow, what a good play that wa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the student went to the store to buy some candy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what is your favorite food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i wonder if this is the last sentenc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this is the last practice sentenc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68580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riting Application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15235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Good writers will try to use at least 2 of the 4 kinds of sentences in a paragraph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Tahoma"/>
              </a:rPr>
              <a:t>Declarative Sentence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A declarative sentence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Tahoma"/>
              </a:rPr>
              <a:t>makes a statement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.  It ends with a period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He likes pepperoni pizza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The umbrella is green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Mrs. Smith is a teache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Tahoma"/>
              </a:rPr>
              <a:t>Interrogative Sentence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An interrogative sentence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Tahoma"/>
              </a:rPr>
              <a:t>asks a question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.  It ends with a question mark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Do you like pepperoni pizza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Have you seen my umbrella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Who is your teacher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Tahoma"/>
              </a:rPr>
              <a:t>Exclamatory Sentence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An exclamatory sentence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Tahoma"/>
              </a:rPr>
              <a:t>shows strong feeling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.  It ends with an exclamation point.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Hooray, we have grammar today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Wow,  that’s great news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Tahoma"/>
              </a:rPr>
              <a:t>Imperative Sentence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An imperative sentence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Tahoma"/>
              </a:rPr>
              <a:t>gives a command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.  It ends with a period or an exclamation mark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Go to your room now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Throw me the ball pleas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Bob, please close the doo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ffff"/>
                </a:solidFill>
                <a:uFillTx/>
                <a:latin typeface="Tahoma"/>
              </a:rPr>
              <a:t>Practice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See if you can correctly identify and punctuate the following of sentences. 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are you going to the movies tonight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what a great movie that wa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5:39:22Z</dcterms:created>
  <dc:creator>Brent Coley</dc:creator>
  <dc:description/>
  <dc:language>en-US</dc:language>
  <cp:lastModifiedBy>... ...</cp:lastModifiedBy>
  <dcterms:modified xsi:type="dcterms:W3CDTF">2011-07-08T02:18:41Z</dcterms:modified>
  <cp:revision>119</cp:revision>
  <dc:subject/>
  <dc:title>Kinds of Sentences</dc:title>
</cp:coreProperties>
</file>